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A7F-E8E5-4AAE-BCAF-89BB7B91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60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083-D12C-40C7-AE5E-D2FF5068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A28-65E3-4991-A1C3-ACF4E54C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6584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27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6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6584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27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15C-F675-475B-966D-B336EE5A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DCD-7BFE-4E95-BC94-127FF931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73C-B27A-466D-A74F-AF429C8D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9F7-87EA-4EF7-8E9D-28A76FFE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672-F884-48EF-A7C8-D56CCEAE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D99-C3C9-4D9C-B81B-28FB437C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198-F158-4232-BA57-4054C10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6C9-9043-4DF0-905A-30887047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7BA-9C8A-4A84-99DA-716FE75C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00800"/>
            <a:ext cx="9142560" cy="4557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3744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2800" spc="-1" strike="noStrike">
                <a:solidFill>
                  <a:srgbClr val="ffffff"/>
                </a:solidFill>
                <a:latin typeface="Futura LtCn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7440" y="662904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C4CD-61F8-489B-9202-2A349B97657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6840" y="6407640"/>
            <a:ext cx="475200" cy="475200"/>
            <a:chOff x="-6840" y="6407640"/>
            <a:chExt cx="475200" cy="475200"/>
          </a:xfrm>
        </p:grpSpPr>
        <p:sp>
          <p:nvSpPr>
            <p:cNvPr id="7" name="Rectangle 9"/>
            <p:cNvSpPr/>
            <p:nvPr/>
          </p:nvSpPr>
          <p:spPr>
            <a:xfrm rot="2700000">
              <a:off x="62280" y="6477480"/>
              <a:ext cx="336600" cy="335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171360" y="6506280"/>
              <a:ext cx="129240" cy="148320"/>
              <a:chOff x="171360" y="6506280"/>
              <a:chExt cx="129240" cy="148320"/>
            </a:xfrm>
          </p:grpSpPr>
          <p:sp>
            <p:nvSpPr>
              <p:cNvPr id="9" name="Oval 11"/>
              <p:cNvSpPr/>
              <p:nvPr/>
            </p:nvSpPr>
            <p:spPr>
              <a:xfrm>
                <a:off x="171360" y="6506280"/>
                <a:ext cx="129240" cy="123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171360" y="6530760"/>
                <a:ext cx="12924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40320" y="655920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U I B</a:t>
              </a:r>
              <a:endParaRPr b="0" lang="en-US" sz="8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2280" y="6717600"/>
              <a:ext cx="166320" cy="7380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78" h="123">
                  <a:moveTo>
                    <a:pt x="4" y="65"/>
                  </a:moveTo>
                  <a:lnTo>
                    <a:pt x="69" y="0"/>
                  </a:lnTo>
                  <a:lnTo>
                    <a:pt x="84" y="9"/>
                  </a:lnTo>
                  <a:lnTo>
                    <a:pt x="93" y="70"/>
                  </a:lnTo>
                  <a:lnTo>
                    <a:pt x="148" y="0"/>
                  </a:lnTo>
                  <a:lnTo>
                    <a:pt x="163" y="9"/>
                  </a:lnTo>
                  <a:lnTo>
                    <a:pt x="183" y="61"/>
                  </a:lnTo>
                  <a:lnTo>
                    <a:pt x="197" y="70"/>
                  </a:lnTo>
                  <a:lnTo>
                    <a:pt x="217" y="70"/>
                  </a:lnTo>
                  <a:lnTo>
                    <a:pt x="262" y="46"/>
                  </a:lnTo>
                  <a:lnTo>
                    <a:pt x="272" y="46"/>
                  </a:lnTo>
                  <a:lnTo>
                    <a:pt x="277" y="51"/>
                  </a:lnTo>
                  <a:lnTo>
                    <a:pt x="262" y="89"/>
                  </a:lnTo>
                  <a:lnTo>
                    <a:pt x="197" y="117"/>
                  </a:lnTo>
                  <a:lnTo>
                    <a:pt x="163" y="117"/>
                  </a:lnTo>
                  <a:lnTo>
                    <a:pt x="133" y="79"/>
                  </a:lnTo>
                  <a:lnTo>
                    <a:pt x="93" y="122"/>
                  </a:lnTo>
                  <a:lnTo>
                    <a:pt x="84" y="122"/>
                  </a:lnTo>
                  <a:lnTo>
                    <a:pt x="49" y="56"/>
                  </a:lnTo>
                  <a:lnTo>
                    <a:pt x="0" y="93"/>
                  </a:lnTo>
                  <a:lnTo>
                    <a:pt x="4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413126-A2DB-4D4D-BB49-A011C0E557C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D5FD93-5D69-484F-B5B1-E5C89D1A69A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Arquitectura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Consistencia de consolidació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mprobar la validez de los datos en el entorno operaciona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Datos que no se usa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Datos que no se mantiene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Inconsistencia entre distintas aplicaciones dentro del sistem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Datos no igualmente mantenido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Codificaciones diferent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366945-BEF2-4B79-8C87-B89DCD358E3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Arquitectura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Mecanismos de consolidación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Refresco de datos: Volcado completo de los datos procedentes del sistema operaciona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Actualización de datos: Volcado incremental, tomando como criterio la fecha de operació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Propagación de datos: Creación de logs en el entorno transaccional, los cuales se aplican en el entorno analític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Factores tecnic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Mecanismo de transport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Tiempos de carg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Reformateo de dato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07D11E-296A-4A25-8492-BB8C41622EC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Arquitectura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560" y="12189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Middle-Wa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Gestiona comunicaciones con el Datawarehous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ordina la concurrenci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ntrola procesos batch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Aplicacion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istemas de presentación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istemas interrogativ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istemas de simulación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istemas funcional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istemas expert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DS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6E5185-D78A-4CD1-BD19-41A6E961B51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BBDD 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El análisis de los datos se suele basar en un modelo simplificado de estrella, o más genéricamente, de copo de nieve (snowflake), el cual relaciona los hechos con los agentes del negocio (dimensiones)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4724280" y="4191120"/>
            <a:ext cx="685800" cy="60948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LtCn BT"/>
              </a:rPr>
              <a:t>Venta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3124080" y="4191120"/>
            <a:ext cx="68580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LtCn BT"/>
              </a:rPr>
              <a:t>Geografí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648320" y="3048120"/>
            <a:ext cx="68580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LtCn BT"/>
              </a:rPr>
              <a:t>Tiempo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6172200" y="4191120"/>
            <a:ext cx="68580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LtCn BT"/>
              </a:rPr>
              <a:t>Client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4724280" y="5486400"/>
            <a:ext cx="68580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LtCn BT"/>
              </a:rPr>
              <a:t>Producto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 flipV="1">
            <a:off x="5029200" y="36576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 flipH="1">
            <a:off x="3809880" y="449568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5029200" y="4800600"/>
            <a:ext cx="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5410080" y="44956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AC12CE-71BE-461C-AC9C-40EA4EF631E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BBDD 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La relación entre tablas relaciones y tablas de hechos y dimensiones, se lleva a cabo mediante un Diccionario de Datos, el cual define cada elemento del negocio en base a las tablas y campos físico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Tipos de BBDD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BBDD Relaciona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BBDD Multidimensiona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BBDD Híbrid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BBDD OLAP (BBDD Relacional con funcionalidad OLAP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78CD0E-8AC7-4EEF-BC52-DE2D00564C5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Conceptos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Datawarehouse: Repositorio completo de datos de la empresa, donde se almacenan datos estratégicos, tácticos y operativos, al objeto de obtener información estratégica y táctic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Data-Mars: Repositorio parcial de datos de la empresa, donde se almacenan datos tácticos y operativos, al objeto de obtener información táctic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Data-Mining: Técnicas de análisis de datos encaminadas a obtener información oculta en un Datawarehous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6C80F7-905A-4808-9441-8738E960EE7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Conceptos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EIS (Executive Information System): Herramientas para proveer de información estratégica a los ejectuivos, mediante informes, comparativas y cuadros de mandos multi-dimensionales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DSS (Decission Suport System): Herramientas de ayuda a la toma de decisiones. Incorpora reglas de decisión y análisis de datos no predefinidos en las posibilidades de un EI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B8FF47-DE48-4E36-A273-6C3CE91B0C6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OLTP - 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OLTP (On-Line Transaction Processing): Define el comportamiento habitual de un entorno operacional de gestión: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Altas/Bajas/Modificaciones/Consult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nsultas rápidas y escuet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Poco volumen de información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Transacciones rápid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Gran nivel de concurrenci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F9A27E-A559-496A-9E9F-A9711103D7B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OLTP-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OLAP: On-Line Analytical Process: Define el comportamiento de un sistema de análisis de datos y elaboración de información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ólo Consult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nsultas pesadas y no predecibl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Gran volumen de información históric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Operaciones lent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C5AEEE-B391-4710-A489-17C8210AF76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OLTP - 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233280" y="1413000"/>
          <a:ext cx="853596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413000"/>
                    <a:ext cx="85359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B0A8B8-78E5-4062-9F1C-5AABDEB0F44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OLTP - 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Todas estas divergencias hacen que no sea posible la convivencia en una única BBDD de los entornos OLAP y OLTP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Pérdida de rendimiento del entorno OLTP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Falta de integración entre distintos aplicaciones OLTP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Tecnologías de  BBDD sin capacidad para soportar aplicaciones  OLTP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Incorporación de datos externos difícilmente aplicable a la BBDD OLTP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Distribución de los datos no adecuada para análisis OLTP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2A38CB-B007-4F51-80B2-5ACAD00855D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Arquitectura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Diagrama de Flujo de Dato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grpSp>
        <p:nvGrpSpPr>
          <p:cNvPr id="89" name="Group 34"/>
          <p:cNvGrpSpPr/>
          <p:nvPr/>
        </p:nvGrpSpPr>
        <p:grpSpPr>
          <a:xfrm>
            <a:off x="4419720" y="2971800"/>
            <a:ext cx="914400" cy="990720"/>
            <a:chOff x="4419720" y="2971800"/>
            <a:chExt cx="914400" cy="990720"/>
          </a:xfrm>
        </p:grpSpPr>
        <p:sp>
          <p:nvSpPr>
            <p:cNvPr id="90" name="Rectangle 11"/>
            <p:cNvSpPr/>
            <p:nvPr/>
          </p:nvSpPr>
          <p:spPr>
            <a:xfrm>
              <a:off x="4419720" y="3124440"/>
              <a:ext cx="9144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OLAP</a:t>
              </a: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1" name="Oval 12"/>
            <p:cNvSpPr/>
            <p:nvPr/>
          </p:nvSpPr>
          <p:spPr>
            <a:xfrm>
              <a:off x="4419720" y="2971800"/>
              <a:ext cx="914400" cy="304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2" name="Oval 13"/>
            <p:cNvSpPr/>
            <p:nvPr/>
          </p:nvSpPr>
          <p:spPr>
            <a:xfrm>
              <a:off x="4419720" y="3657600"/>
              <a:ext cx="91440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3" name="Arc 14"/>
            <p:cNvSpPr/>
            <p:nvPr/>
          </p:nvSpPr>
          <p:spPr>
            <a:xfrm flipV="1">
              <a:off x="4876920" y="3809520"/>
              <a:ext cx="457200" cy="152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4" name="Arc 15"/>
            <p:cNvSpPr/>
            <p:nvPr/>
          </p:nvSpPr>
          <p:spPr>
            <a:xfrm flipH="1" flipV="1">
              <a:off x="4419720" y="3809520"/>
              <a:ext cx="457200" cy="15228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95" name="Rectangle 28"/>
          <p:cNvSpPr/>
          <p:nvPr/>
        </p:nvSpPr>
        <p:spPr>
          <a:xfrm>
            <a:off x="2743200" y="3200400"/>
            <a:ext cx="990720" cy="457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Futura LtCn BT"/>
              </a:rPr>
              <a:t>Consolidació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6095880" y="3124080"/>
            <a:ext cx="685800" cy="6858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Futura LtCn BT"/>
              </a:rPr>
              <a:t>Middle-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Futura LtCn BT"/>
              </a:rPr>
              <a:t>Ware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7620120" y="3124080"/>
            <a:ext cx="761760" cy="6858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Futura LtCn BT"/>
              </a:rPr>
              <a:t>Aplicació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98" name="Group 47"/>
          <p:cNvGrpSpPr/>
          <p:nvPr/>
        </p:nvGrpSpPr>
        <p:grpSpPr>
          <a:xfrm>
            <a:off x="1600200" y="4038480"/>
            <a:ext cx="609480" cy="609480"/>
            <a:chOff x="1600200" y="4038480"/>
            <a:chExt cx="609480" cy="609480"/>
          </a:xfrm>
        </p:grpSpPr>
        <p:sp>
          <p:nvSpPr>
            <p:cNvPr id="99" name="Rectangle 48"/>
            <p:cNvSpPr/>
            <p:nvPr/>
          </p:nvSpPr>
          <p:spPr>
            <a:xfrm>
              <a:off x="1600200" y="4132440"/>
              <a:ext cx="609480" cy="421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OLTP</a:t>
              </a:r>
              <a:endParaRPr b="0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0" name="Oval 49"/>
            <p:cNvSpPr/>
            <p:nvPr/>
          </p:nvSpPr>
          <p:spPr>
            <a:xfrm>
              <a:off x="1600200" y="4038480"/>
              <a:ext cx="609480" cy="1875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1" name="Oval 50"/>
            <p:cNvSpPr/>
            <p:nvPr/>
          </p:nvSpPr>
          <p:spPr>
            <a:xfrm>
              <a:off x="1600200" y="4460400"/>
              <a:ext cx="609480" cy="187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2" name="Arc 51"/>
            <p:cNvSpPr/>
            <p:nvPr/>
          </p:nvSpPr>
          <p:spPr>
            <a:xfrm flipV="1">
              <a:off x="1904760" y="4554360"/>
              <a:ext cx="304560" cy="93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3" name="Arc 52"/>
            <p:cNvSpPr/>
            <p:nvPr/>
          </p:nvSpPr>
          <p:spPr>
            <a:xfrm flipH="1" flipV="1">
              <a:off x="1600200" y="4554360"/>
              <a:ext cx="304560" cy="9360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grpSp>
        <p:nvGrpSpPr>
          <p:cNvPr id="104" name="Group 53"/>
          <p:cNvGrpSpPr/>
          <p:nvPr/>
        </p:nvGrpSpPr>
        <p:grpSpPr>
          <a:xfrm>
            <a:off x="1600200" y="3124080"/>
            <a:ext cx="609480" cy="609480"/>
            <a:chOff x="1600200" y="3124080"/>
            <a:chExt cx="609480" cy="609480"/>
          </a:xfrm>
        </p:grpSpPr>
        <p:sp>
          <p:nvSpPr>
            <p:cNvPr id="105" name="Rectangle 54"/>
            <p:cNvSpPr/>
            <p:nvPr/>
          </p:nvSpPr>
          <p:spPr>
            <a:xfrm>
              <a:off x="1600200" y="3218040"/>
              <a:ext cx="609480" cy="421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OLTP</a:t>
              </a:r>
              <a:endParaRPr b="0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6" name="Oval 55"/>
            <p:cNvSpPr/>
            <p:nvPr/>
          </p:nvSpPr>
          <p:spPr>
            <a:xfrm>
              <a:off x="1600200" y="3124080"/>
              <a:ext cx="609480" cy="1875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7" name="Oval 56"/>
            <p:cNvSpPr/>
            <p:nvPr/>
          </p:nvSpPr>
          <p:spPr>
            <a:xfrm>
              <a:off x="1600200" y="3546000"/>
              <a:ext cx="609480" cy="187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8" name="Arc 57"/>
            <p:cNvSpPr/>
            <p:nvPr/>
          </p:nvSpPr>
          <p:spPr>
            <a:xfrm flipV="1">
              <a:off x="1904760" y="3639960"/>
              <a:ext cx="304560" cy="93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9" name="Arc 58"/>
            <p:cNvSpPr/>
            <p:nvPr/>
          </p:nvSpPr>
          <p:spPr>
            <a:xfrm flipH="1" flipV="1">
              <a:off x="1600200" y="3639960"/>
              <a:ext cx="304560" cy="9360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grpSp>
        <p:nvGrpSpPr>
          <p:cNvPr id="110" name="Group 59"/>
          <p:cNvGrpSpPr/>
          <p:nvPr/>
        </p:nvGrpSpPr>
        <p:grpSpPr>
          <a:xfrm>
            <a:off x="1600200" y="2209680"/>
            <a:ext cx="609480" cy="609480"/>
            <a:chOff x="1600200" y="2209680"/>
            <a:chExt cx="609480" cy="609480"/>
          </a:xfrm>
        </p:grpSpPr>
        <p:sp>
          <p:nvSpPr>
            <p:cNvPr id="111" name="Rectangle 60"/>
            <p:cNvSpPr/>
            <p:nvPr/>
          </p:nvSpPr>
          <p:spPr>
            <a:xfrm>
              <a:off x="1600200" y="2303640"/>
              <a:ext cx="609480" cy="421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OLTP</a:t>
              </a:r>
              <a:endParaRPr b="0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2" name="Oval 61"/>
            <p:cNvSpPr/>
            <p:nvPr/>
          </p:nvSpPr>
          <p:spPr>
            <a:xfrm>
              <a:off x="1600200" y="2209680"/>
              <a:ext cx="609480" cy="1875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3" name="Oval 62"/>
            <p:cNvSpPr/>
            <p:nvPr/>
          </p:nvSpPr>
          <p:spPr>
            <a:xfrm>
              <a:off x="1600200" y="2631600"/>
              <a:ext cx="609480" cy="187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4" name="Arc 63"/>
            <p:cNvSpPr/>
            <p:nvPr/>
          </p:nvSpPr>
          <p:spPr>
            <a:xfrm flipV="1">
              <a:off x="1904760" y="2725560"/>
              <a:ext cx="304560" cy="93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5" name="Arc 64"/>
            <p:cNvSpPr/>
            <p:nvPr/>
          </p:nvSpPr>
          <p:spPr>
            <a:xfrm flipH="1" flipV="1">
              <a:off x="1600200" y="2725560"/>
              <a:ext cx="304560" cy="9360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16" name="Line 65"/>
          <p:cNvSpPr/>
          <p:nvPr/>
        </p:nvSpPr>
        <p:spPr>
          <a:xfrm>
            <a:off x="2209680" y="25909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6"/>
          <p:cNvSpPr/>
          <p:nvPr/>
        </p:nvSpPr>
        <p:spPr>
          <a:xfrm>
            <a:off x="2209680" y="3429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67"/>
          <p:cNvSpPr/>
          <p:nvPr/>
        </p:nvSpPr>
        <p:spPr>
          <a:xfrm flipV="1">
            <a:off x="2209680" y="3580920"/>
            <a:ext cx="5335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68"/>
          <p:cNvSpPr/>
          <p:nvPr/>
        </p:nvSpPr>
        <p:spPr>
          <a:xfrm>
            <a:off x="3733920" y="3429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69"/>
          <p:cNvSpPr/>
          <p:nvPr/>
        </p:nvSpPr>
        <p:spPr>
          <a:xfrm>
            <a:off x="5410080" y="3429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Line 70"/>
          <p:cNvSpPr/>
          <p:nvPr/>
        </p:nvSpPr>
        <p:spPr>
          <a:xfrm>
            <a:off x="685800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3DC530-595F-450D-A023-F224F91E992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Arquitectura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OLTP: Bases de datos transaccionales, propias o incorporada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OLAP: BBDD Datawarehouse de análisi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Procesos de consolidació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ambio de tecnología de BBDD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umarizan datos disgreagad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Transforman dat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nsolidan datos de aplicaciones no integrad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9T09:03:52Z</dcterms:created>
  <dc:creator>Gabriel Buades Rubio</dc:creator>
  <dc:description/>
  <dc:language>en-US</dc:language>
  <cp:lastModifiedBy>USUARIO</cp:lastModifiedBy>
  <dcterms:modified xsi:type="dcterms:W3CDTF">2010-06-04T22:24:43Z</dcterms:modified>
  <cp:revision>9</cp:revision>
  <dc:subject/>
  <dc:title>Datawareho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../index.html</vt:lpwstr>
  </property>
  <property fmtid="{D5CDD505-2E9C-101B-9397-08002B2CF9AE}" pid="9" name="LinkColor">
    <vt:r8>16711782</vt:r8>
  </property>
  <property fmtid="{D5CDD505-2E9C-101B-9397-08002B2CF9AE}" pid="10" name="MailAddress">
    <vt:lpwstr>bbuades@dgtic.caib.es</vt:lpwstr>
  </property>
  <property fmtid="{D5CDD505-2E9C-101B-9397-08002B2CF9AE}" pid="11" name="NavBtnPos">
    <vt:r8>2</vt:r8>
  </property>
  <property fmtid="{D5CDD505-2E9C-101B-9397-08002B2CF9AE}" pid="12" name="Other">
    <vt:lpwstr>Sesión del curso Ingeniería del Software III (5 º Ingeniería Informática de la UIB)</vt:lpwstr>
  </property>
  <property fmtid="{D5CDD505-2E9C-101B-9397-08002B2CF9AE}" pid="13" name="OutputDir">
    <vt:lpwstr>F:\Mis documentos\IS3 01-02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